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2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5D07371-45ED-4119-8526-697C0090384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301A419-3C13-4F33-BDA3-CD27704443D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BA09B9-0D22-4507-B04B-630073D3B08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029-9474-4917-9796-57F15D56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62D-8154-471D-BA03-280BE017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B3247D-FABB-4BB6-9CFF-8C0B748A246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373F63-D127-4049-9638-2BC4252FB5F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CA5106-AA36-4D81-99F4-3A79690B075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E8E30B-77A4-41C7-837E-423228DE667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33446D-7420-4600-8F2F-97A9762C57D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AE059F-0A3C-43EE-8B1B-5DD50EBAA3B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71A218-3E4D-42E1-BC80-EEAFE48547A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8D099A-0D45-4C0D-89A1-5D134336108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C165BD-0ACE-4C4C-ABDF-8ABC2A6FA6C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5C8DA4-0B58-4A4F-9BDB-318F22782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D2FA-44B5-4D4A-8033-CA70D06C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9337B7-C041-4211-BA2C-0A5D3C257C7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ACF434-0667-43A9-9FB4-A7129F03971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F24351-C4B0-458A-A807-E46A891834E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40FE0A-B4C4-4EEB-97D0-0C6D330FD40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8F120D-701B-4475-84F2-4AF67F03C12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E1D72B-2903-46C8-A664-7E311F04CFA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0AF72E-31A7-4BD2-8D91-A68905A5542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250D84-C854-4415-A8F1-93A44E15BD4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4E432-7543-4AD0-8F6B-DF0A4604F0C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BAA6E2-D9A9-4D88-B54D-D9CEFBA8C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C511-EE5A-432C-A045-99A67B9D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04FCDF-5F84-42CC-B4D6-797C2D00806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A03C4-C9B2-4F93-83C9-AAE7647B66A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52473-CEB9-48D0-81B0-08F0DA8325E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69543-2612-4F94-9A6E-466B6D32CC1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6B255-2161-412D-89B9-8136995720D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8D63D-EF5A-45D5-B5D3-090F461678D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40396-4F7F-4173-84BC-CC03135C175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12CC2-0F70-440F-959F-71520670F50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D9DCA-77A9-48C5-A955-0EFD181168D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18488-23FE-4D9F-BF20-75B1F0A56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44743-AEDA-497B-BAF1-097F837C16A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39D43-2A3E-4300-8E3D-A25574ED3F4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7667A-261C-4FDF-A788-B1375E7263C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5A0E0B-5E85-4886-A994-4BB9D275779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72E6C7-6061-4E0B-9349-45FA417B094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41396D-3068-401B-A4E3-C71D00DD67B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32D4AE-FE2D-46A2-8FE7-81080F68FED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DB81BC-7DFD-4C24-8C38-FFE86FAA5D5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2783ED-C16D-4BEF-9955-23BCE1CB5DD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34F570-36AE-4B55-B936-1BD16E6D1A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831E39-3F20-4D6A-A5AD-3AA7F7CA331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78A4B3-0202-4A29-B392-64BC7FEB9CC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54B9AE-49E8-4D22-818F-5FE53127A54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921F6C-7BA3-4A71-9B37-53C25434DD9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44697B-7CCB-4179-ABF4-BF45CAAFAC8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7B3C2-4420-4603-A5A8-4D86E177205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06276-1E2E-4B1C-A960-4B775432C5E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C555A2-62B2-45EA-B7CC-99F4D690B3A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3CEF40-191A-4F32-AFD3-D1C3954E607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46E2C1-6DC5-4747-B1AA-0FF65E975B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9697BD-8958-4F7B-AE4C-0BD007B03CF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5A8C4E-9C2C-48A6-9682-4071787A85E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825B8-57FC-4815-B738-A6E5826E670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AF0AE-1940-4EBD-B5D7-E20A6430C4E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0612E7-E846-40DB-892B-3C67B35AF3B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1BAA5A-A727-4646-8573-B9C00F1FC14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C71BCF-72FE-4375-B432-B17D6E2067A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B83EE-93D9-4F5C-BE62-711D96F631E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FEC80-01FB-4060-A517-8ADC13A64C9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2CE19-F88B-4C00-BDEA-8100251188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647FD-BF57-4096-9B7D-7707ECDEA02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0A8A4-4C9A-4CA5-9AFC-1E6A1156873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5D83B-CC75-490C-AFDB-0DA72467608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B5007-FE2C-4BC6-B912-20279FA89F3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2ADA3-8102-4992-A711-DDF0E1E3C4F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BCC82-7A6C-4027-B291-BBAD2A471B5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10511-D59B-484F-A4E9-F6EC856AAF6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4FC74-7166-47FD-B0D3-EFC32153222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BB621-462A-4846-AC92-2B028AE8163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EC469E-5DBD-4CFF-981B-9FA777BACF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D2D131-A2AB-43B9-B508-8654C9BA566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932F39-0AA4-4F26-A239-3C9B1958336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887E7E-976E-4F6B-882B-F80F1C49984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14B643-B831-4717-9AA6-ACCF586014F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E75732-7E38-470B-B895-D2C65255199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6071F1-3AEC-4799-879D-FE46E18A3E7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F19811-C7F2-4767-B919-5E3F5D8F456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15A3D9-F794-4C3E-A01A-BCE40838FA5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2DA1D2-74CA-4736-ABE9-F60082F93E0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613B84-B253-490C-B19C-E0411A6FA5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9248D2-D9FC-41BB-92BE-07D6512764B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E2DF7C-ED90-4DE2-B034-E82C9A96E64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997C59-2F09-4236-A15D-09CE1CABB9D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78BE41-20EA-494B-BBE7-4EB0F85F556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9D3DA7-3E5F-4616-923C-B494476C4B7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33B57F-FED6-4BCC-A0E1-C254297A8D6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440338-BF87-449D-9AE5-800C94105AF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FF467-D8D5-4906-B14A-DAD1CFC078E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0A39BA-44DF-4431-B92B-2C3C1216B70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37DB10-D32C-4DBE-8F4F-5F2AA27C99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C3900D-05F1-4702-B210-7E2ED97E32C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9F416D-C7C9-4DB5-82CD-E280BC6FA04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3ACF7E-5C6A-400F-9C09-60CB2A3E574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1FB-AC30-4272-A43F-8E8C7830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6BD38-86EC-47C7-8BC6-0A464203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79E7BB-E547-4B18-9B01-99833115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E51818-B882-4F82-B5F7-059C5DF9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37FA94-C560-4CCA-83AC-257EF5FF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179D8B-822D-4615-AA0C-4E29C96F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42E80C-117C-4E3A-BFD8-0F2D3014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9A98AE-0B18-482F-B90F-59C0E9EF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A0C69E-3E11-4330-843E-2A55EBE0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962CEB-6EF8-4B4B-A6C8-A4BEF589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1B3D9F-D34A-4824-A867-21FB29F2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091BB2-15E8-435D-9409-FA859231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DF1023-7E7C-4BE2-80F4-F5E0A4F4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E99DE-B91C-48FD-A9A3-7734D61EC5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E1B59-7544-40BD-9FF3-F8D1BEECFD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96E2F-B4AE-4DBD-A753-C41D68659D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DB761-5911-4FFB-AFDF-CC9FCEBF89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977AF-0E11-4F2C-96F7-DC39E89FB2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8C3-4FFA-4DE2-AB78-93762F6C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286A6-DDEE-4148-AF41-356178C197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6F21F-1AE7-4C1A-A599-3BF5D5AEDA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6E40A-A19E-4D77-8A4C-4F8862ED8F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CEA18-772C-4065-A132-95E94D0872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20662-6B74-45A4-9147-0F9876972E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05556-72A7-4EEB-A205-BC64240AE0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683E2-626C-46DD-A4E6-74FBD0C2B6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7FE4F-9AFF-4A56-8698-7555588986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8F369-158E-4A6A-92A6-6AEEDB51D18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22FB0-2903-4CC2-8FB9-C5881790F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96D5-06FF-45ED-BEAC-E3516EF9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06FC6-5C6C-4DB3-AE30-18DB0847AE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C4CD6-69C7-4631-A881-E29FCB7F87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7A7FC-957E-419D-BD2F-E2F4D4EBC6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66CCE-E9C0-48DC-9CA2-F6C8535BD3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5CE6C-4025-4838-8F25-E622A506EB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5CB01-49FB-47F7-B240-95D1CCB623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22D60-14D2-4C08-8491-12841D8559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03D0B-E8AE-4F34-9EAE-E5FCF97127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1CE44-01EF-4B3C-8C0C-57D212F6141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DC1D-F182-4EA2-91D1-9678B2FAB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FD10-7D8B-4755-9A21-4D4DA4A5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DC03-DC97-4477-BE4A-4611D680D94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21F3-63F3-4514-B581-43F6ED83E18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0839-0AE7-4847-AF86-6FE50F9771B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513A-DB9C-4B5E-A99E-A7EB991EF3E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D303-D139-48BC-9AA3-35EDFE354D7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4A7E-EB30-4843-8CF2-21E76F9BBC3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A41D-0F18-4002-BE35-BEA260874F3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9B0B-21BD-4FB7-B14C-39DCB5E2219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DBCF-0411-421F-8E14-0A06FDDC497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B0BF-B262-4D57-97CA-5499DD0FB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2C93-F006-48B7-A873-2DFD4E10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05DF-03C6-4163-AD89-CD600542B56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2991CF-393F-4F4E-AEED-47B384B85A8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A6F970-7399-48C7-BA67-DCE08BE75F7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980050-1921-4D1F-BDFB-B42D3E5F789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BD7033-C54B-4450-987E-A873DD07C29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77E657-312A-44BC-8960-4ACA0E72399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185B89-009F-4596-A4F5-4CC8A37DDA7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9698C0-A1E0-4BAC-A250-4479D9F6851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8CC0D5-696E-4F69-9F13-A994D38EC85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C09B00-F63B-4F6F-B0C4-1184A5A6B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7B2-97BC-4477-8B9C-9CB0C15B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FBFAFA-65B0-440D-AD0A-60A29CB1877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F92644-7FFE-43B4-AE76-84B635A1FEF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C03713-47D6-4698-A916-81C672623DE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EE7FC-92DE-480A-B4F8-8057BAA1AF9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5E070-BE7B-4485-A264-4BB39F32321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15EB6A-4A32-4A27-B2F6-8D77B7D3B26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FDA99-1EBA-4675-9AAE-091D045441A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D1133-39ED-4757-8D33-52FAA2E33E0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6D1BD-5A0A-4104-A6CB-E00054EB446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83FF3-64DF-43D6-BEB3-3A2671BDD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1C9-6D2C-4807-82BE-6BA087DD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A8296A-2857-4986-BA61-1FF6A79D8EF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6F1CE-25B2-405F-974E-18A74DB2A0F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B8330-B7EA-4F06-AF47-FA85FB72AB9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43B8C-81C9-4A75-B174-2D1E8196B3B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87A14-7097-4ADE-8C43-AA63054FD12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A1B1C-710A-42B2-881E-9A3C9C39733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9CCC-13A3-401B-9ABC-6C79041445C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9BC8B-A59F-4951-A7DD-F8AE3783735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2D2E7-416F-40C2-BB51-AFA4C690CD6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04980-8102-4664-984C-EA747B8E5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52D-AC22-4475-A64D-C286AB62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690A7-A116-4931-A2E2-83F2DD755E7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28116-57E2-4E6E-88C3-08D0647D03E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C30D5-5670-4750-997C-358506082A8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174A3-439C-4D2B-A3EF-EA5C4FB5085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8356F-DF5C-4896-9E5E-FBFE849D308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54686-7D2C-41FC-8694-C355C09FB3E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31117-2143-4EC4-8C88-8C50A56AE24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397E1F-D728-4DE0-AF5A-F70EE903FE1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D14CA9-7199-4377-B4DA-A18AA2BC7CB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E0AE56-AF4A-4244-9012-9CEB6BC66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CDB8552-51AB-4C56-9F29-2A990534B0C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93ED13B-29B5-411A-B5E8-5BD40C36EE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174843B-9024-4A6B-834A-18E36D755DE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8761F6B-C574-49D9-9948-6DB950AF4B2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D744993-005F-471A-A7D8-E9810FDFAED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9460C8D-A449-498D-9CE6-709D210F291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464F663-5114-4277-A13F-D1C60EF96B5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6A8A5D-B606-4899-B6C0-877845EEE2A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D2F8A2E-ABCE-4B07-AA22-F2BB5565103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BEE6709-4CCA-47D6-9D64-CF00D7A0B096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F05DAAC-A8B1-4E1C-B456-14C16E8C1B46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95FF6D0-C69B-4D75-9759-C046F8C8189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5F556D8-BA63-4840-BE6E-64FA305C496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D62F2C8-1326-4FD3-BDE9-B5253ED9BC2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379EACF-5D2F-4624-8D8A-D94D3FA7CBA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1710D4D-D684-4111-9F2E-99908FBAD0F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BF11E7A-4062-45E8-B4C1-6A15D7AF2CA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6F36044-64DF-41D9-BD4E-D2001CFE905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jektu sagatavošana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79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 programmas kop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ējā statist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 txBox="1"/>
          <p:nvPr/>
        </p:nvSpPr>
        <p:spPr>
          <a:xfrm>
            <a:off x="484200" y="2182320"/>
            <a:ext cx="5330880" cy="46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http://statistikk.nordplusonline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Picture 1" descr=""/>
          <p:cNvPicPr/>
          <p:nvPr/>
        </p:nvPicPr>
        <p:blipFill>
          <a:blip r:embed="rId2"/>
          <a:stretch/>
        </p:blipFill>
        <p:spPr>
          <a:xfrm>
            <a:off x="268200" y="3243240"/>
            <a:ext cx="84628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4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5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8" name=""/>
          <p:cNvGraphicFramePr/>
          <p:nvPr/>
        </p:nvGraphicFramePr>
        <p:xfrm>
          <a:off x="1082520" y="2300400"/>
          <a:ext cx="7755120" cy="350676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7 (6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9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1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www.nordplusonline.org/news-call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" descr=""/>
          <p:cNvPicPr/>
          <p:nvPr/>
        </p:nvPicPr>
        <p:blipFill>
          <a:blip r:embed="rId2"/>
          <a:stretch/>
        </p:blipFill>
        <p:spPr>
          <a:xfrm>
            <a:off x="1736640" y="2360520"/>
            <a:ext cx="6310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 iesniegšanas termiņš </a:t>
            </a:r>
            <a:r>
              <a:rPr b="0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– </a:t>
            </a: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2021.gada 1.oktobris, plkst. 23.59.  pēc Norvēģijas la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espresso.siu.no/espresso/login?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2" descr=""/>
          <p:cNvPicPr/>
          <p:nvPr/>
        </p:nvPicPr>
        <p:blipFill>
          <a:blip r:embed="rId1"/>
          <a:stretch/>
        </p:blipFill>
        <p:spPr>
          <a:xfrm>
            <a:off x="158760" y="457200"/>
            <a:ext cx="91216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rdplus programmas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ieskaitot ceļā pavadīto laik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no katras organizācijas/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m Nordplus sedz 100% ceļa izdevumus un uzturēšanās izdevumus saskaņā ar likmē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 2021.gada 1.novembra līdz 2022. gada 1.februāri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ja plānots iesniegt projektu 2022. gada projektu konkursam)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vai līdz 2021./2022.mācību gada beig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897200" y="1506600"/>
            <a:ext cx="678960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itle 1"/>
          <p:cNvSpPr/>
          <p:nvPr/>
        </p:nvSpPr>
        <p:spPr>
          <a:xfrm>
            <a:off x="2266920" y="493560"/>
            <a:ext cx="60958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b7d91"/>
                </a:solidFill>
                <a:latin typeface="Verdana"/>
              </a:rPr>
              <a:t>Detalizēti apakšprogrammu apraksti pieejami Nordplus Rokasgrāmatā (IV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2"/>
          <p:cNvSpPr/>
          <p:nvPr/>
        </p:nvSpPr>
        <p:spPr>
          <a:xfrm>
            <a:off x="485640" y="2503440"/>
            <a:ext cx="39402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Katru gadu pirms projektu konkursa tiek publicēta rokasgrāmatas atjaunotā vers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2021.gada Nordplus Rokasgrāmata (angļu valodā) pieejama: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https://www.nordplusonline.org/how-to-apply/handbook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Picture 2" descr=""/>
          <p:cNvPicPr/>
          <p:nvPr/>
        </p:nvPicPr>
        <p:blipFill>
          <a:blip r:embed="rId1"/>
          <a:stretch/>
        </p:blipFill>
        <p:spPr>
          <a:xfrm>
            <a:off x="5784840" y="1795320"/>
            <a:ext cx="28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Box 9"/>
          <p:cNvSpPr/>
          <p:nvPr/>
        </p:nvSpPr>
        <p:spPr>
          <a:xfrm>
            <a:off x="846000" y="4124160"/>
            <a:ext cx="20178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700" spc="-1" strike="noStrike">
                <a:solidFill>
                  <a:srgbClr val="002060"/>
                </a:solidFill>
                <a:latin typeface="Calibri"/>
                <a:ea typeface="Calibri"/>
              </a:rPr>
              <a:t>Nordplus Rokasgrāmata (2021.) par sagatavošanas vizītēm, 18.lpp; 44.lpp , 64.lpp, 65 lpp., 72.lp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1"/>
          <a:stretch/>
        </p:blipFill>
        <p:spPr>
          <a:xfrm>
            <a:off x="1952640" y="1189080"/>
            <a:ext cx="4826160" cy="29350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" descr=""/>
          <p:cNvPicPr/>
          <p:nvPr/>
        </p:nvPicPr>
        <p:blipFill>
          <a:blip r:embed="rId2"/>
          <a:stretch/>
        </p:blipFill>
        <p:spPr>
          <a:xfrm>
            <a:off x="5280120" y="3538440"/>
            <a:ext cx="34812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703520" y="1252440"/>
            <a:ext cx="74404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u Ministru padomes programma Ziemeļvalstu un Baltijas valstu sadarbībai izglītības jomā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5 apakšprogramm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Jaunieš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ākās izglītīb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Pieaugušo izglītīb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Horizontāl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valod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Oficiālais portāls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nordplusonline.org/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Informācija VIAA portālā latvisk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viaa.gov.lv/lv/nordplu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Ceļa izdevumi savā  valstī, ja pārsniedz 500 km – 150 eur 1 dalībniekam. (uz Latviju nav attiecinā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apakš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! Kā projekta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1993680" y="1349280"/>
            <a:ext cx="6692760" cy="4840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- 100% 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 piešķirtā finansējuma saskaņā ar plānotajām vienības izmaksā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tīkliem un projektiem kopš 2021. gada līdzfinansējuma apjoms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av noteikts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2" descr=""/>
          <p:cNvPicPr/>
          <p:nvPr/>
        </p:nvPicPr>
        <p:blipFill>
          <a:blip r:embed="rId1"/>
          <a:stretch/>
        </p:blipFill>
        <p:spPr>
          <a:xfrm>
            <a:off x="4308480" y="1647720"/>
            <a:ext cx="4282920" cy="13860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3" descr=""/>
          <p:cNvPicPr/>
          <p:nvPr/>
        </p:nvPicPr>
        <p:blipFill>
          <a:blip r:embed="rId2"/>
          <a:stretch/>
        </p:blipFill>
        <p:spPr>
          <a:xfrm>
            <a:off x="4408560" y="3127320"/>
            <a:ext cx="4487760" cy="227484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2"/>
          <p:cNvSpPr/>
          <p:nvPr/>
        </p:nvSpPr>
        <p:spPr>
          <a:xfrm>
            <a:off x="4857840" y="5649840"/>
            <a:ext cx="3776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a apraksts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24. – 25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411280" y="423720"/>
            <a:ext cx="6485040" cy="94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Jauniešu Sadarbības projektu un tīkl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3"/>
          <a:stretch/>
        </p:blipFill>
        <p:spPr>
          <a:xfrm>
            <a:off x="109440" y="1652760"/>
            <a:ext cx="3992760" cy="247464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2"/>
          <p:cNvSpPr/>
          <p:nvPr/>
        </p:nvSpPr>
        <p:spPr>
          <a:xfrm>
            <a:off x="358920" y="4363920"/>
            <a:ext cx="3779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Jauniešu apakšpr.  sadarbības projektu pieteikumu veidlapa, pieejama https://espresso.diku.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apakš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r visi un jebkurš pieaugušo izglītībā iesaistītais (formālā, neformālā, vispārējā, profesionālā izglītība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ff0000"/>
                </a:solidFill>
                <a:latin typeface="Calibri"/>
                <a:ea typeface="Verdana"/>
              </a:rPr>
              <a:t>!!!</a:t>
            </a:r>
            <a:r>
              <a:rPr b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tematisko tīklu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lānošan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izglītības projektu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966600" y="1547640"/>
            <a:ext cx="8002440" cy="3262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vadības, īstenošanas un publicitātes izmaksa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fiksēta summa projekta koordinatoram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3000 EUR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, projekta partneriem –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1000 EU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(starptautiskās) tikšanā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ceļa un uzturēšanās izdevumi projektā iesaistīto partneru dalībai plānošanas, projekta koordinēšanas sanāksmēm, semināriem, mācību kursiem saskaņā ar noteiktajām likmēm ceļa un uzturēšanās izdevumi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1" name="Picture 4" descr=""/>
          <p:cNvPicPr/>
          <p:nvPr/>
        </p:nvPicPr>
        <p:blipFill>
          <a:blip r:embed="rId1"/>
          <a:srcRect l="3218" t="7703" r="1798" b="5770"/>
          <a:stretch/>
        </p:blipFill>
        <p:spPr>
          <a:xfrm>
            <a:off x="2752560" y="4700520"/>
            <a:ext cx="5642280" cy="1819440"/>
          </a:xfrm>
          <a:prstGeom prst="rect">
            <a:avLst/>
          </a:prstGeom>
          <a:ln w="0">
            <a:noFill/>
          </a:ln>
        </p:spPr>
      </p:pic>
      <p:sp>
        <p:nvSpPr>
          <p:cNvPr id="872" name="Rectangle 2"/>
          <p:cNvSpPr/>
          <p:nvPr/>
        </p:nvSpPr>
        <p:spPr>
          <a:xfrm>
            <a:off x="201600" y="5310360"/>
            <a:ext cx="2386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966600" y="1593360"/>
            <a:ext cx="8002440" cy="2311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Izstrādes darb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darba apmaksai, kas ieguldītas projekta ietvaros paredzētā produkta radīšanai (izglītojošie materiāli, mācību programmas, metodes, u.c.), saskaņā ar noteiktajām likmē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4" descr=""/>
          <p:cNvPicPr/>
          <p:nvPr/>
        </p:nvPicPr>
        <p:blipFill>
          <a:blip r:embed="rId1"/>
          <a:stretch/>
        </p:blipFill>
        <p:spPr>
          <a:xfrm>
            <a:off x="2614680" y="3659040"/>
            <a:ext cx="6218280" cy="233064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2"/>
          <p:cNvSpPr/>
          <p:nvPr/>
        </p:nvSpPr>
        <p:spPr>
          <a:xfrm>
            <a:off x="291960" y="4402080"/>
            <a:ext cx="208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apakš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visi ieinteresētie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     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– dāņu, somu, norvēģu, zviedru, sāmu, islandiešu, fēriešu, grenlandiešu valoda, zīmju valoda (ziemeļvalstu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konferences, seminār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ublikācij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214720" y="380880"/>
            <a:ext cx="64720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jektu dalībnieki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ama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vidusskol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zinātniskās institū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nevalstiskās organizā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ivātuzņēmum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+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1 sadarbības partneris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Nordplus programmas finansējums -  līdz 75%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 no aktivitāšu izmaksām, 25% - projekta īstenotāju līdzfinansēju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1855800" y="1279080"/>
            <a:ext cx="6905520" cy="5025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Tiešie izdevu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ceļa un uzturēšanās izdevumi, telpu noma semināriem, materiālu drukāšana semināriem, samaksa vieslektoriem, specifisku darbu izpildītāj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administratīvās izmaksas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līdz 5%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no </a:t>
            </a:r>
            <a:r>
              <a:rPr b="0" i="1" lang="lv-LV" sz="2000" spc="-1" strike="noStrike">
                <a:solidFill>
                  <a:srgbClr val="254061"/>
                </a:solidFill>
                <a:latin typeface="Calibri"/>
              </a:rPr>
              <a:t>Nordplus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 finansējuma projekta koordinēšanas nodrošināšanai (pamatojošie dokumenti nav nepieciešam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Projektā iesaistītajiem darbiniekiem - samaksa par darbu, kas ir ieguldīts projekta izglītības rezultātu/produktu radīšanā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(mācību programma, mācību līdzekļi, mācību metodes ut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2" descr=""/>
          <p:cNvPicPr/>
          <p:nvPr/>
        </p:nvPicPr>
        <p:blipFill>
          <a:blip r:embed="rId1"/>
          <a:stretch/>
        </p:blipFill>
        <p:spPr>
          <a:xfrm>
            <a:off x="1490760" y="1712880"/>
            <a:ext cx="7653240" cy="3576600"/>
          </a:xfrm>
          <a:prstGeom prst="rect">
            <a:avLst/>
          </a:prstGeom>
          <a:ln w="0">
            <a:noFill/>
          </a:ln>
        </p:spPr>
      </p:pic>
      <p:sp>
        <p:nvSpPr>
          <p:cNvPr id="887" name="Rectangle 2"/>
          <p:cNvSpPr/>
          <p:nvPr/>
        </p:nvSpPr>
        <p:spPr>
          <a:xfrm>
            <a:off x="136440" y="2739960"/>
            <a:ext cx="1449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Budžeta sadaļa projekta pieteikuma veidlapā, Espresso sistēma https://espresso.siu.n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782720" y="861840"/>
            <a:ext cx="736128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 – www.nordplusonline.org, projektu piemēri - https://www.nordplusonline.org/projects/project-stories/ 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http://espresso.siu.no/espres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projects/partner-search/#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Twinning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www.etwinning.net/en/pub/index.htm 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choolgateway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login.schoolgateway.com/0/auth/log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138560" y="1417320"/>
            <a:ext cx="454824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es </a:t>
            </a:r>
            <a:r>
              <a:rPr b="0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3" descr=""/>
          <p:cNvPicPr/>
          <p:nvPr/>
        </p:nvPicPr>
        <p:blipFill>
          <a:blip r:embed="rId1"/>
          <a:stretch/>
        </p:blipFill>
        <p:spPr>
          <a:xfrm>
            <a:off x="8568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264960" y="1916280"/>
            <a:ext cx="35038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sagatavošanas vizītes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2012760" y="1252440"/>
            <a:ext cx="6870600" cy="217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Sniedz iespēju </a:t>
            </a:r>
            <a:r>
              <a:rPr b="1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tikties potenciālā projekta partneriem pieteikumu sagatavošanai Jauniešu, Pieaugušo izglītības un Ziemeļvalstu valodu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2" descr=""/>
          <p:cNvPicPr/>
          <p:nvPr/>
        </p:nvPicPr>
        <p:blipFill>
          <a:blip r:embed="rId2"/>
          <a:stretch/>
        </p:blipFill>
        <p:spPr>
          <a:xfrm>
            <a:off x="0" y="4168800"/>
            <a:ext cx="9212400" cy="17571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4" descr=""/>
          <p:cNvPicPr/>
          <p:nvPr/>
        </p:nvPicPr>
        <p:blipFill>
          <a:blip r:embed="rId3"/>
          <a:stretch/>
        </p:blipFill>
        <p:spPr>
          <a:xfrm>
            <a:off x="77760" y="2076480"/>
            <a:ext cx="18813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828440" y="992160"/>
            <a:ext cx="7094520" cy="5160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2.gada Nordplus projektu konkursu plānots izsludināt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1.novembrī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paredzamais projektu iesniegšanas termiņš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022.gada 1.februār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- 2022. gada konkursos projekti tiek aicināti  uzsvērt </a:t>
            </a:r>
            <a:r>
              <a:rPr b="1" lang="lv-LV" sz="22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r>
              <a:rPr b="1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 </a:t>
            </a:r>
            <a:r>
              <a:rPr b="0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(</a:t>
            </a:r>
            <a:r>
              <a:rPr b="0" lang="en-US" sz="2200" spc="-1" strike="noStrike">
                <a:solidFill>
                  <a:srgbClr val="009a00"/>
                </a:solidFill>
                <a:latin typeface="Calibri"/>
                <a:ea typeface="Verdana"/>
              </a:rPr>
              <a:t>“Enhancing Educational Cooperation for a Greener Future” 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Galvenais dokuments projektu sagatavotājiem  - </a:t>
            </a:r>
            <a:r>
              <a:rPr b="1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2022. gada Nordplus rokasgrāmata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tiks publicēta Nordplus oficiālajā mājas lapā pēc  2022. gada konkursa izsludināšan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Nordplus rokasgrāmata (angļu valodā) pieejama: https://www.nordplusonline.org/How-to-apply/HANDBOOK#pdf_fr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344680" y="2371320"/>
            <a:ext cx="6354720" cy="426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no visām 8 programmas dalībvalstīm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g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331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projektu pieteikumi ar kopējo pieprasīto grantu 14, 84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kopumā 8 programmas dalībvalstīs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apstiprinā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56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(77%) ar kopējo piešķirto grantu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8,59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Detalizēta informācija par 2021. gada projektu konkursa rezultātiem pieejama Nordplus programmas oficiālajā portālā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https://www.nordplusonline.org/news/nordplus-overview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5" descr="A picture containing text, indoor, person&#10;&#10;Description automatically generated"/>
          <p:cNvPicPr/>
          <p:nvPr/>
        </p:nvPicPr>
        <p:blipFill>
          <a:blip r:embed="rId2"/>
          <a:stretch/>
        </p:blipFill>
        <p:spPr>
          <a:xfrm>
            <a:off x="190440" y="2446200"/>
            <a:ext cx="23004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AC81009-39BD-4B45-8FDB-4080C5398B8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21.gada projektu konkursa  rezultāti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244440" y="1963800"/>
          <a:ext cx="8745480" cy="3740040"/>
        </p:xfrm>
        <a:graphic>
          <a:graphicData uri="http://schemas.openxmlformats.org/drawingml/2006/table">
            <a:tbl>
              <a:tblPr/>
              <a:tblGrid>
                <a:gridCol w="1249560"/>
                <a:gridCol w="1249200"/>
                <a:gridCol w="1249200"/>
                <a:gridCol w="1249560"/>
                <a:gridCol w="1378080"/>
                <a:gridCol w="1120680"/>
                <a:gridCol w="1249200"/>
              </a:tblGrid>
              <a:tr h="13204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 iesnieg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jektu pieteikum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finansē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iesnieg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finansē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 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%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no kopējā finansēto projektu ska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26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514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 (22 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97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 (8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68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10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8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Val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4,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7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6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147 7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itle 1"/>
          <p:cNvSpPr/>
          <p:nvPr/>
        </p:nvSpPr>
        <p:spPr>
          <a:xfrm>
            <a:off x="2292480" y="473040"/>
            <a:ext cx="6242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Verdana"/>
              </a:rPr>
              <a:t>Nordplus programmas atbalstīto projektu skaits un piešķirtais finansējums Latvijas organizācijām 2008. – 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Placeholder 3"/>
          <p:cNvSpPr/>
          <p:nvPr/>
        </p:nvSpPr>
        <p:spPr>
          <a:xfrm flipV="1" rot="10800000">
            <a:off x="0" y="5979960"/>
            <a:ext cx="9144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Kopumā visās Nordplus apakšprogrammās no 2008. līdz 2021. gadam apstiprinā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497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Latvijas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iesniedzēju (koordinatoru) projekti par kopējo summu ~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9 miljoni eiro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Chart 4" descr=""/>
          <p:cNvPicPr/>
          <p:nvPr/>
        </p:nvPicPr>
        <p:blipFill>
          <a:blip r:embed="rId1"/>
          <a:stretch/>
        </p:blipFill>
        <p:spPr>
          <a:xfrm>
            <a:off x="158760" y="1652760"/>
            <a:ext cx="88628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1-09-07T10:35:50Z</dcterms:modified>
  <cp:revision>226</cp:revision>
  <dc:subject/>
  <dc:title>PowerPoint Presentation</dc:title>
</cp:coreProperties>
</file>